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8BC-76C3-4D28-81FA-D723F547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419-637A-4205-9275-2FD273AC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CD8-5647-4A44-8446-521E1EBC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6FD-6933-4553-89FB-0E10FEDA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B271-DC09-4AFF-9B4F-599235F8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11D8-3761-4013-AF12-AEFD58AC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B366-DC6C-47C2-A400-379E20FF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D26-D945-456D-BC5D-1D8FA1F7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66BD-CC29-429E-8797-76786F91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04A-8EE4-4012-B857-94BDA51D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C61-6805-4B80-9B33-5A15DD77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299-0A27-42C1-A51A-1B051B63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1518-158B-446D-98E5-B2ECB21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CAB-2D8D-420C-B572-4D1D613C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563A-31AA-4722-A600-D1538664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298A-963D-4508-990F-4D6F4CF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9290-BE6F-4CCD-B2C5-98D72300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FA25-C54F-4DEF-B3F3-C8CA54D2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819C-11C0-48DD-8354-67E54B56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D85EA-2A9A-4260-BE6F-613F18B4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2B75-38F6-4876-847B-3BB9D87E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05408-0CD0-4EB8-8778-9535AEC7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26F-14C8-43BC-A100-04424C4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328DC-B569-468C-8A8F-052FE165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442A7-DDCB-4017-8D07-6FD631F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9C98D-549D-43BC-876F-2C5F2F9F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9C7D-2544-472F-97BF-658E28E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8C6E-C17A-4C54-9AE7-05F13752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AC4F-D294-4CAC-A18B-905B9746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B389-4392-4B8D-9271-185E38E3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F515-6961-4017-BD28-4231C3EE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9FCD7-FCBE-47E4-8260-FFF673DE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04187-C779-448B-9DBE-C9ECA93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E44-FF4E-44B9-AF06-BBF8F5FB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03D8B-624B-4CFC-8061-1F2BC8C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07B5F-BF48-4D91-8489-AC8E20C1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B7E9-F8D9-406E-B35C-ADF21D82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03A5-9502-44CC-AAEE-6310D586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5173-E8F4-45D6-8B13-AABB252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2766-B083-4FAE-8637-1FC18A7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B8E1-8E55-45E3-8E5C-5CD70283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2618-7DE4-4CF7-9A99-E43DC991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C575-0717-4D2A-BAE9-D409A72D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95C7-598F-4490-92D4-8BE75936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869-ED8D-467E-8EAD-F8215A8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346-3AD8-446E-92BB-83D4FE2B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A4C-0EAB-4607-87C7-1F60634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B95-A87A-4AEC-980C-060CD1FC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E5CB-E573-48EE-B626-4AB4903E13A7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AECF-2C26-4A6C-AD18-87AC54375D33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7B9-E473-4B8F-B373-62DF05046FB2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4809-ED50-4ED6-B2D3-EDFD55263E3B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197000"/>
            <a:ext cx="57229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260c"/>
                </a:solidFill>
                <a:latin typeface="Constantia"/>
              </a:rPr>
              <a:t>Особенности</a:t>
            </a:r>
            <a:r>
              <a:rPr b="0" lang="ru-RU" sz="4300" spc="-1" strike="noStrike">
                <a:solidFill>
                  <a:srgbClr val="c3260c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c3260c"/>
                </a:solidFill>
                <a:latin typeface="Constantia"/>
              </a:rPr>
              <a:t>подготовки инновационнных общеобразовательных учреждений к государственной аккреди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57121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 сентября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620640"/>
            <a:ext cx="6964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640" y="162864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системе внутреннего мониторинга качества образования не уделяется особого внимания качеству образования по предметам, изучаемым углубл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нутришкольный контроль по данному направлению не орган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12 п.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341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осударственной аккредитации образовательного учреждения устанавливается его государственный статус, подтверждающий или изменяющий тип и (или) вид образовательного учрежд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 rot="10800000">
            <a:off x="1094760" y="548280"/>
            <a:ext cx="69642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6920" y="691920"/>
            <a:ext cx="756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1-2012 учебном году было аккредитовано 68 инновационных учреждений Республики Татарстан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иц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гимн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школы с углубл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м отдельны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1280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12 п.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1700280"/>
            <a:ext cx="61959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и вид образовательного учреждения устанавливаются учредителем при создании образовательного учреждения и изменяются по решению учред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9640" y="817200"/>
            <a:ext cx="7559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Типовое положение</a:t>
            </a:r>
            <a:br>
              <a:rPr sz="2800"/>
            </a:b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об общеобразовательном учрежде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71640" y="155700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редняя общеобразовательная школа с углубленным изучением отдельных предметов (реализует общеобразовательные программы начального общего,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одному или нескольким предметам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гимназия (реализует общеобразовательные программы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предметам гуманитарного профил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может реализовывать общеобразовательную программу начального общего образования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лицей (реализует общеобразовательные программы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предметам технического или естественно-научного профил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может реализовывать общеобразовательную программу начального общего образования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549000"/>
            <a:ext cx="69642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Типовое положение</a:t>
            </a:r>
            <a:br>
              <a:rPr sz="2800"/>
            </a:b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об общеобразовательном учрежде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360" y="1483920"/>
            <a:ext cx="777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г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ном общеобразовательн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реждении 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атываемыми и реализуе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м учрежде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 на осн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образователь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тов и пример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учеб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урсов,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9 п.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11280" y="1341000"/>
            <a:ext cx="79214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бщеобразовательны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щего, основного общего и среднего (полного) общего образова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спечивают реализац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государственного образовательно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та с учетом типа и вида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потребностей и запросов обучающихся, воспитанник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включаю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б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ый план, рабочи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курсов, предметов, дисциплин (модулей) и другие материалы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спечива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развитие, воспитание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чество подготовк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1557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авах ОУ не указаны  виды реализуемых образовате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Локальные акты, регламентирующие учебный процесс, не отражают специфику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ализуемый учебный план не соответствует базисному учебному плану для общеобразовательных учреждений РТ, реализующих программы повышенного уровня (лицеев, гимназий, школ с углубленным изучением отдельных предме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ояснительной записке не изложены особенности учебного плана в соответствии с целями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620280"/>
            <a:ext cx="6964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4360" y="1844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утствует системность и преемственность учебных планов за последние три года, что делает вообще невозможным реализацию программ, обеспечивающих дополнительную (углубленную) под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 определении списка предметов, изучаемых углубленно, не учитывается материально-техническое, кадровое, учебно-лабораторное, информационно-методическое обеспечение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475920"/>
            <a:ext cx="6964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55736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бочие программы по предметам, обеспечивающим дополнительную (углубленную) подготовку, разработаны форм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Выбор элективных курсов на ступени среднего (полного) общего образования производится нерационально, содержание курсов часто дублирует содержание стандар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Качество подготовки выпускников 9,11 классов анализируется  образовательным учреждением без учета вида учреждения (на этапе самообслед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7:49:58Z</dcterms:created>
  <dc:creator>Ludmila</dc:creator>
  <dc:description/>
  <dc:language>en-US</dc:language>
  <cp:lastModifiedBy>Ляйсан_Якуповна</cp:lastModifiedBy>
  <cp:lastPrinted>2012-09-27T10:27:36Z</cp:lastPrinted>
  <dcterms:modified xsi:type="dcterms:W3CDTF">2012-10-18T07:19:38Z</dcterms:modified>
  <cp:revision>29</cp:revision>
  <dc:subject/>
  <dc:title>Презентация PowerPoint</dc:title>
</cp:coreProperties>
</file>